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322-BA7C-48B5-8ADD-9E34EFCD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F4E-9144-4AD3-81B2-8DDE62BF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2E7-B411-41D7-98D2-400A9882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116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880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116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880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267-3E49-4126-BC0F-C02FEEB6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AD5-900A-4F6C-BADD-4CBB7BD1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E6F-5702-4A3C-86E4-7DAA8F82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2C8-162D-4526-8075-AAA2A003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467-ABB9-40F4-8BB2-6AD28355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1916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860-EACA-4E6A-9E5D-873A210D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EB93-FF23-4B70-AAB8-75C13F70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0AC-27C6-42CE-B962-F9EA08B1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C60-52C9-46D9-9BC3-1088187E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68AE-6CE8-44CA-8A89-5F1C5D5CA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520" y="2133360"/>
            <a:ext cx="7239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Using FTD 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the Marketing Offe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execution of mark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and time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to both customers and recip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50 pre-built letter, postcard and email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aig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let’s show you have to run a few campa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mail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marketing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a marketing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4:25:45Z</dcterms:created>
  <dc:creator>MTAC3740</dc:creator>
  <dc:description/>
  <dc:language>en-US</dc:language>
  <cp:lastModifiedBy>MTAC3740</cp:lastModifiedBy>
  <dcterms:modified xsi:type="dcterms:W3CDTF">2008-09-12T14:56:44Z</dcterms:modified>
  <cp:revision>2</cp:revision>
  <dc:subject/>
  <dc:title>Slide 1</dc:title>
</cp:coreProperties>
</file>